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5F9-4B4B-4F77-892E-F3CCDC7E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BFC-37E2-4D8D-8787-1D0D874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AF1-3949-4406-B33B-965135BC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956-03B0-471E-BD27-00C77F16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E52-5363-478B-B00C-135224E3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104-CE3C-4D8F-A72C-9D7D7638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8DB-FCB8-494D-A9A3-2A95359E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D19-C8C4-43C0-B0DF-26FE6806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C6D-0D96-4F12-B128-BA490D68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487-9FA7-4447-8B98-F3F7B73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172-45B0-4E76-9826-1F156823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D20-4562-4022-8ECC-CF5018EA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05DF-F5D7-4A05-A545-A40967CB56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1523520"/>
            <a:ext cx="655308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NSE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OLD W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99840" y="388620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of Cover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2133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Intelligence Agency (CIA) used to achieve covert objec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an: CIA restored the shah to power after democratic el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atemala: CIA ousts leftist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Europe: Refused to help East Germans or Hungar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tinuing Cold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, 1957: Russians launch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put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, 1960: U-2 incident cancelled plans for summit on new Berlin Crisis (Between Krushchev and Eisenhow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uary, 1961: Eisenhower warned against growing military-industrial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test ban tre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and U.S.S.R. agreed to suspend  nuclear testing in the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d War Begin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Dividing U.S. and U.S.S.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905120"/>
            <a:ext cx="8534160" cy="46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rol of postwar Europe (post 194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ssians occupied eastern Europe (buffer zone) creating satellite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.S. demanded national self-determination (free elections) throughout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conomic 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DR denied Russia aid at the end of war (relations will so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shall Plan of 1948 (Russia refused aid) was developed to rebuild Europe (mostly Western Europ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uclear disarma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46 USSR wanted immediate abolition while U.S. wanted gradual reduction (Baruch Plan-U.S. control over inspection of nuclear weapons in the wor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viets were working on developing nuclear capab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i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all for “containment of Russia’s expansive tendencie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uman Doctrine was to support free peoples who are resisting communism (Greece and Turke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informal declaration of cold war against the Soviet Union and expansion of communis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of N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partment of Defense unified armed forc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ntral Intelligence Agency cre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ional Security Council advises presid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d War Exp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47: U.S.-Russian arms race accele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949: First Russian atomic bomb exploded, U.S. began hydrogen bomb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erlin Blocka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948: Russians blockade of Berl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uman ordered airlift to supply the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Western Military Alli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949: North Atlantic Treaty Organization (NATO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litary alliance included U.S., Canada, most of western Europ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lict Expands into A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45: U.S. consolidates hold on Japan, former Japanese possessions in Pacif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49: Civil War in China leads to victory for Mao Tse-tung (communism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lt in U.S. concentration on areas around China (Japa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50: Communist North Korean forces invaded U.S.-influenced South Ko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r results into a stalemate keeping division at 3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arall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lt is U.S. military build up and concentration all over the wor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yalty Issue and McCarthy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se Un-American Activities Committee (HUAC) investigated Communist subversion in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uman responded with loyalty pr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er Hiss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crats blame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sing" China to Commun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ssia's development of a hydrogen bom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50: Senator Joseph McCarthy launched anticommunist campaign (Second Red Sc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cent overwhelmed by accus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54: Attack on Army discredited McCarthy who is then cen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95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DIVI7233TB2801"/>
          <p:cNvPicPr/>
          <p:nvPr/>
        </p:nvPicPr>
        <p:blipFill>
          <a:blip r:embed="rId2"/>
          <a:srcRect l="0" t="20294" r="0" b="0"/>
          <a:stretch/>
        </p:blipFill>
        <p:spPr>
          <a:xfrm>
            <a:off x="380880" y="2895480"/>
            <a:ext cx="7772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publicans/Eisenhower in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52: Eisenhower captures White House for Republican Pa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s Korean W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senhower “new look” policy relied on massive retaliation to deter Soviet atta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isenhower W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d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anglement in Indo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ctory of Communist Ho Chi Minh in Vietnam over F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tnam divided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rallel (election postponed to unite n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th Vietnam under U.S. puppet reg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ing 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ugh line against China over Taiw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ove wedge between China,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moil in the Middle E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ez Canal Crisis (Egypt/Soviet Union vs. France/Britain/Israel/U.S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senhower won Middle East trust by pressuring English, French withdraw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40:12Z</dcterms:created>
  <dc:creator>CMU</dc:creator>
  <dc:description/>
  <cp:keywords/>
  <dc:language>en-US</dc:language>
  <cp:lastModifiedBy>Thaddeus J. Brooks</cp:lastModifiedBy>
  <cp:lastPrinted>2012-04-19T01:07:11Z</cp:lastPrinted>
  <dcterms:modified xsi:type="dcterms:W3CDTF">2013-10-28T14:19:53Z</dcterms:modified>
  <cp:revision>33</cp:revision>
  <dc:subject/>
  <dc:title>CHAPTER 28 THE ONSET OF THE COLD WAR</dc:title>
</cp:coreProperties>
</file>